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BFE-61A5-431E-808B-A3D979AD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260-F1E0-4455-88CD-2A4ED1B2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BD4-7C76-425C-A0F3-0CDA9115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41B-1C75-4C66-86DD-5A639E44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30F-70C8-48A7-9252-C24B789C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5D2-CACF-4BB5-9B7F-41F5FE17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D16-1DE8-47A3-81B1-B5217E74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290-57E8-4375-B190-E440D3B0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DF6-12CC-4D5C-BF75-3FFC23DA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8F5-0099-4E25-BB80-7B83055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FA1-6DC4-4926-9EB3-DF75CD63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72E-5A2F-4465-88CE-4FA4DB1F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32F9-8BFF-4976-929B-694EE74AA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9:06Z</dcterms:created>
  <dc:creator>Maxwell Matt</dc:creator>
  <dc:description/>
  <dc:language>en-US</dc:language>
  <cp:lastModifiedBy>Maxwell Matt</cp:lastModifiedBy>
  <dcterms:modified xsi:type="dcterms:W3CDTF">2009-01-23T16:35:00Z</dcterms:modified>
  <cp:revision>1</cp:revision>
  <dc:subject/>
  <dc:title>PowerPoint Presentation</dc:title>
</cp:coreProperties>
</file>